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75DD-4CF5-4AFF-AFED-B6E90F087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545D-C333-4138-B56D-19BC0568D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D44F-C7E6-4C29-B47F-D1FDD4843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9938-5870-45A9-878C-27E45C8E8E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FED0-0577-4EF3-9A85-476FC3428A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ACBF-798F-4771-8B07-52D025857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4818-5F78-480B-AA0A-A4703EF1E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AC8A0-CBC1-43E3-A41F-3F404D0DF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2871-1BD5-4BD6-BDC2-B704F1B9F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1E1F-4473-445C-A609-3DDC0BF74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5E5C-3A65-46CE-90DA-660B2C1F5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BB05-312D-495E-B965-759196DC4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B400-5026-4893-8231-54CCC029E9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A826-AF25-44EF-8931-9BFF6FA0CF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Deb W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Mary Fi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14400" y="1980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/contrast your predictions with the success criteria the students co-construct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B485-DD21-4E57-8949-7A1A909083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…revisit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iscuss what you think students would identify as success criteria for the Cookie Problem once they have completed the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4089-BE88-4EA8-A524-79CBA132DD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33920" y="3809880"/>
            <a:ext cx="4724280" cy="2133720"/>
          </a:xfrm>
          <a:prstGeom prst="cloudCallout">
            <a:avLst>
              <a:gd name="adj1" fmla="val -88912"/>
              <a:gd name="adj2" fmla="val -38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you change about your success criteria now that you have solved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Video…continued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the students alter their success criteria they co-constructed before they did the problem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9A47-4EDC-438F-AA02-F787EAB9A4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/contrast your predictions with the student’s revised success criteri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4A07-0BEF-45DC-9C3F-3099275CCB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b5ca9"/>
                </a:solidFill>
                <a:latin typeface="Arial"/>
              </a:rPr>
              <a:t>Video…the math!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F567-8BAE-4483-80BA-1221F47BB6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040" y="251424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responding in the mo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responding ove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B698-6EE8-4B93-8361-FB2F60D1D3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tudent Sample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32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 the feedback you would provide to the  stud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E3BA-18C5-4E12-91BC-DE2F34C34A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haring of feedback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 one student sample and team up with another p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re your samples and the feedback you would provi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E3A3-6D56-4CCC-A8AA-90FF92FB6D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more math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4920" y="2285640"/>
            <a:ext cx="6705720" cy="3505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s closer to a 1/2? 3/8 or 4/10? 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9322-8B94-4403-8F69-9EEE680F13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more math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2640" y="18284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s closer to a 1/2? 3/8 or 4/10? 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23FD-3AA3-4E48-BF26-A6AC34DBDD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3505320" y="3429000"/>
            <a:ext cx="4495680" cy="2209680"/>
          </a:xfrm>
          <a:prstGeom prst="cloudCallout">
            <a:avLst>
              <a:gd name="adj1" fmla="val -87643"/>
              <a:gd name="adj2" fmla="val -28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ve the problem in at least two ways, noting possible student respon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 your responses with a partner and provide feedback to each 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A0F4-2AE4-4132-9E86-55D5750E1B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2666880" y="1905120"/>
            <a:ext cx="3654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2285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3F9A-1C69-414B-B1A9-A076CD7296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040" y="18288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’ve been engaged in the math throughout this breakout we would like you to fill out the exit c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53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0CA1-184F-4818-B044-109F0F91CB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Open Sort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e the statements in a way that make sense to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 your reaso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BAEF-C5BB-4696-9C93-F0E535DCB1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Open Sort…continued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s the sorting template altered the organization of your statements in any way? Explai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CBF9-E366-4954-8AA5-C3037652E8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okie Recip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6135-598D-47D9-AA0D-BAC0C4A65D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4343400" cy="32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pectations, Big Ideas,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 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133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compare your answers and discuss some of the different ways of solving this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expecta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AE21-72E2-48F0-B8D0-C230A8B783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haring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43000" y="26665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lesson goal(s) for the Cooki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BEB8-565B-4D18-B2CC-C61F9C801D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iscuss what you think students would identify as success criteria for the Cookie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AC12-92FF-408E-8FCD-7EB3D831E9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86200" y="4038480"/>
            <a:ext cx="3429000" cy="1676520"/>
          </a:xfrm>
          <a:prstGeom prst="cloudCallout">
            <a:avLst>
              <a:gd name="adj1" fmla="val -93842"/>
              <a:gd name="adj2" fmla="val -71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a good answer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the students identify as evidence of a good answe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2AC4-9160-4135-B991-08E918556A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Mary</cp:lastModifiedBy>
  <dcterms:modified xsi:type="dcterms:W3CDTF">2011-08-08T18:16:32Z</dcterms:modified>
  <cp:revision>71</cp:revision>
  <dc:subject/>
  <dc:title>&lt;Title&gt;</dc:title>
</cp:coreProperties>
</file>